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A71-128C-4132-9A1B-AA5E5CC6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10F-0223-4818-A41D-55BF007B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4AF-1AEA-4BC9-8ECC-8B73C10F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0100-A41C-4EA3-9F29-2AE928FD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EDF3-DF78-4213-B2B4-CE9761B5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DFAA-1D47-4517-A7D0-D8078F18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5C12-057C-44AF-8857-0480E93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4C3-EDA2-4919-AF54-9C8FFD62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C28D-5DF5-4E7B-9E7A-5A158E7C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B186-AB05-4C1D-AA83-949CA1EF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2A5C-6446-4A22-84CA-9F86679E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2EF-B141-4FC7-A516-DAD478F8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AD59-C633-4134-967F-F1F5866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8CD-A485-4A65-951D-66C1B12D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353F-0A30-449D-8D64-F8294203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91C4-43C3-4320-BA55-DB4A791B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3B74-75C2-4825-BA45-A1206042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CE3-B85F-44FF-A3A8-53D2CF7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16E-3AFE-43F3-934A-4B0C2219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702-D064-41FC-BA44-6EDF7460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725-B18E-4056-B6CB-CCB2F14A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196-4419-41D0-8EEE-1343826D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6AB-15E9-41F4-9F60-0E552398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895-7921-4929-8890-1B762FE2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6D5F-FFBA-432E-9BCA-BFAE1837C1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6B16-5C19-4601-B865-5580204BDD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ormbase.org/das/genome/wormbase/1" TargetMode="External"/><Relationship Id="rId2" Type="http://schemas.openxmlformats.org/officeDocument/2006/relationships/hyperlink" Target="http://wormbase.org/das/genome/wormbase/1/type/tRN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ormbase.org/das/wormbase/1/genome/feat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istributed Annotation System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Version 2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, UCL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thony Cox, EBI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egg Helt, Affymetri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rew Dalke, Dalke Scientific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AS/1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120" y="1523880"/>
            <a:ext cx="1415160" cy="1069200"/>
            <a:chOff x="2895120" y="1523880"/>
            <a:chExt cx="1415160" cy="106920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1523880"/>
              <a:ext cx="530280" cy="806400"/>
              <a:chOff x="3276720" y="1523880"/>
              <a:chExt cx="530280" cy="806400"/>
            </a:xfrm>
          </p:grpSpPr>
          <p:sp>
            <p:nvSpPr>
              <p:cNvPr id="88" name=""/>
              <p:cNvSpPr/>
              <p:nvPr/>
            </p:nvSpPr>
            <p:spPr>
              <a:xfrm>
                <a:off x="327672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95959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864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307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7516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120" y="228600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62320" y="2590560"/>
            <a:ext cx="1218960" cy="1295280"/>
            <a:chOff x="2362320" y="2590560"/>
            <a:chExt cx="1218960" cy="1295280"/>
          </a:xfrm>
        </p:grpSpPr>
        <p:sp>
          <p:nvSpPr>
            <p:cNvPr id="94" name=""/>
            <p:cNvSpPr/>
            <p:nvPr/>
          </p:nvSpPr>
          <p:spPr>
            <a:xfrm flipV="1">
              <a:off x="2362320" y="32000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62320" y="3200400"/>
              <a:ext cx="12189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8128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45720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49568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572000"/>
            <a:ext cx="11430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4114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30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0720" y="4267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51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720" y="4191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M101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5556240"/>
            <a:ext cx="603000" cy="1149120"/>
            <a:chOff x="2133720" y="5556240"/>
            <a:chExt cx="603000" cy="1149120"/>
          </a:xfrm>
        </p:grpSpPr>
        <p:grpSp>
          <p:nvGrpSpPr>
            <p:cNvPr id="105" name=""/>
            <p:cNvGrpSpPr/>
            <p:nvPr/>
          </p:nvGrpSpPr>
          <p:grpSpPr>
            <a:xfrm>
              <a:off x="2133720" y="6013440"/>
              <a:ext cx="603000" cy="691920"/>
              <a:chOff x="2133720" y="6013440"/>
              <a:chExt cx="603000" cy="691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3372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2236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060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2696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84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5396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438280" y="555624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523880"/>
            <a:ext cx="1524240" cy="1067760"/>
            <a:chOff x="4724280" y="1523880"/>
            <a:chExt cx="1524240" cy="1067760"/>
          </a:xfrm>
        </p:grpSpPr>
        <p:grpSp>
          <p:nvGrpSpPr>
            <p:cNvPr id="126" name=""/>
            <p:cNvGrpSpPr/>
            <p:nvPr/>
          </p:nvGrpSpPr>
          <p:grpSpPr>
            <a:xfrm>
              <a:off x="5181480" y="1523880"/>
              <a:ext cx="530280" cy="806400"/>
              <a:chOff x="5181480" y="1523880"/>
              <a:chExt cx="530280" cy="80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518148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340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3548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799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24280" y="2286000"/>
              <a:ext cx="152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2590560"/>
            <a:ext cx="1905120" cy="609840"/>
            <a:chOff x="3581280" y="2590560"/>
            <a:chExt cx="1905120" cy="609840"/>
          </a:xfrm>
        </p:grpSpPr>
        <p:sp>
          <p:nvSpPr>
            <p:cNvPr id="133" name=""/>
            <p:cNvSpPr/>
            <p:nvPr/>
          </p:nvSpPr>
          <p:spPr>
            <a:xfrm flipH="1">
              <a:off x="3581280" y="3200400"/>
              <a:ext cx="1905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864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523880"/>
            <a:ext cx="1523880" cy="1067760"/>
            <a:chOff x="6858000" y="1523880"/>
            <a:chExt cx="1523880" cy="1067760"/>
          </a:xfrm>
        </p:grpSpPr>
        <p:grpSp>
          <p:nvGrpSpPr>
            <p:cNvPr id="136" name=""/>
            <p:cNvGrpSpPr/>
            <p:nvPr/>
          </p:nvGrpSpPr>
          <p:grpSpPr>
            <a:xfrm>
              <a:off x="7315200" y="1523880"/>
              <a:ext cx="530280" cy="806400"/>
              <a:chOff x="7315200" y="1523880"/>
              <a:chExt cx="530280" cy="806400"/>
            </a:xfrm>
          </p:grpSpPr>
          <p:sp>
            <p:nvSpPr>
              <p:cNvPr id="137" name=""/>
              <p:cNvSpPr/>
              <p:nvPr/>
            </p:nvSpPr>
            <p:spPr>
              <a:xfrm>
                <a:off x="73152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771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692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36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68580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962520"/>
            <a:ext cx="4261320" cy="1447560"/>
            <a:chOff x="4800600" y="3962520"/>
            <a:chExt cx="4261320" cy="1447560"/>
          </a:xfrm>
        </p:grpSpPr>
        <p:grpSp>
          <p:nvGrpSpPr>
            <p:cNvPr id="143" name=""/>
            <p:cNvGrpSpPr/>
            <p:nvPr/>
          </p:nvGrpSpPr>
          <p:grpSpPr>
            <a:xfrm>
              <a:off x="4800600" y="3962520"/>
              <a:ext cx="4191120" cy="1447560"/>
              <a:chOff x="4800600" y="3962520"/>
              <a:chExt cx="4191120" cy="1447560"/>
            </a:xfrm>
          </p:grpSpPr>
          <p:sp>
            <p:nvSpPr>
              <p:cNvPr id="144" name=""/>
              <p:cNvSpPr/>
              <p:nvPr/>
            </p:nvSpPr>
            <p:spPr>
              <a:xfrm>
                <a:off x="4800600" y="3962520"/>
                <a:ext cx="419112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29200" y="441972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449568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77320" y="4572000"/>
                <a:ext cx="83808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63200" y="4114800"/>
                <a:ext cx="102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AC00302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040" y="41911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M1015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78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50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8168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6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7732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1480" y="480060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41008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343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8487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800100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85345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1640" y="4572000"/>
                <a:ext cx="62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1029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31920" y="4572000"/>
                <a:ext cx="65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82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45600" y="45720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112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51000" y="4572000"/>
                <a:ext cx="55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44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041320" y="426708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C0051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1523880"/>
            <a:ext cx="1523880" cy="1067760"/>
            <a:chOff x="457200" y="1523880"/>
            <a:chExt cx="1523880" cy="1067760"/>
          </a:xfrm>
        </p:grpSpPr>
        <p:grpSp>
          <p:nvGrpSpPr>
            <p:cNvPr id="168" name=""/>
            <p:cNvGrpSpPr/>
            <p:nvPr/>
          </p:nvGrpSpPr>
          <p:grpSpPr>
            <a:xfrm>
              <a:off x="914400" y="1523880"/>
              <a:ext cx="530280" cy="806400"/>
              <a:chOff x="914400" y="1523880"/>
              <a:chExt cx="530280" cy="80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9144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63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684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28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2640" y="2590560"/>
            <a:ext cx="1219320" cy="609840"/>
            <a:chOff x="1142640" y="2590560"/>
            <a:chExt cx="1219320" cy="609840"/>
          </a:xfrm>
        </p:grpSpPr>
        <p:sp>
          <p:nvSpPr>
            <p:cNvPr id="175" name=""/>
            <p:cNvSpPr/>
            <p:nvPr/>
          </p:nvSpPr>
          <p:spPr>
            <a:xfrm flipH="1">
              <a:off x="1142640" y="3200400"/>
              <a:ext cx="1219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30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4724280"/>
            <a:ext cx="3809880" cy="76320"/>
            <a:chOff x="457200" y="4724280"/>
            <a:chExt cx="3809880" cy="76320"/>
          </a:xfrm>
        </p:grpSpPr>
        <p:sp>
          <p:nvSpPr>
            <p:cNvPr id="178" name=""/>
            <p:cNvSpPr/>
            <p:nvPr/>
          </p:nvSpPr>
          <p:spPr>
            <a:xfrm>
              <a:off x="4572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800600"/>
              <a:ext cx="3812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62120" y="4724280"/>
              <a:ext cx="380520" cy="76320"/>
              <a:chOff x="762120" y="4724280"/>
              <a:chExt cx="380520" cy="763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7621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9475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666880" y="4724280"/>
              <a:ext cx="75960" cy="76320"/>
              <a:chOff x="2666880" y="4724280"/>
              <a:chExt cx="75960" cy="7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266688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70360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5480" y="4724280"/>
              <a:ext cx="227880" cy="76320"/>
              <a:chOff x="2895480" y="4724280"/>
              <a:chExt cx="227880" cy="763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289548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00636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447920" y="4724280"/>
              <a:ext cx="380520" cy="76320"/>
              <a:chOff x="1447920" y="4724280"/>
              <a:chExt cx="380520" cy="76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4479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6333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114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480" y="4952880"/>
            <a:ext cx="3886200" cy="228600"/>
            <a:chOff x="609480" y="4952880"/>
            <a:chExt cx="3886200" cy="228600"/>
          </a:xfrm>
        </p:grpSpPr>
        <p:sp>
          <p:nvSpPr>
            <p:cNvPr id="198" name=""/>
            <p:cNvSpPr/>
            <p:nvPr/>
          </p:nvSpPr>
          <p:spPr>
            <a:xfrm>
              <a:off x="6094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35880" y="5556240"/>
            <a:ext cx="603000" cy="1149120"/>
            <a:chOff x="6635880" y="5556240"/>
            <a:chExt cx="603000" cy="1149120"/>
          </a:xfrm>
        </p:grpSpPr>
        <p:grpSp>
          <p:nvGrpSpPr>
            <p:cNvPr id="205" name=""/>
            <p:cNvGrpSpPr/>
            <p:nvPr/>
          </p:nvGrpSpPr>
          <p:grpSpPr>
            <a:xfrm>
              <a:off x="6635880" y="6013440"/>
              <a:ext cx="603000" cy="691920"/>
              <a:chOff x="6635880" y="6013440"/>
              <a:chExt cx="603000" cy="691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3588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2452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9276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912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5000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612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6940440" y="555624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560" y="2590920"/>
            <a:ext cx="3886560" cy="1295280"/>
            <a:chOff x="3733560" y="2590920"/>
            <a:chExt cx="3886560" cy="1295280"/>
          </a:xfrm>
        </p:grpSpPr>
        <p:sp>
          <p:nvSpPr>
            <p:cNvPr id="226" name=""/>
            <p:cNvSpPr/>
            <p:nvPr/>
          </p:nvSpPr>
          <p:spPr>
            <a:xfrm flipV="1">
              <a:off x="76201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3505320"/>
              <a:ext cx="3886200" cy="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7339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627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010280" y="350532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615080" cy="638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17010" t="46509" r="67983" b="28447"/>
          <a:stretch/>
        </p:blipFill>
        <p:spPr>
          <a:xfrm>
            <a:off x="1676520" y="3124080"/>
            <a:ext cx="201456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5760" y="227160"/>
            <a:ext cx="761508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eficiencies of DAS/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at for representing genomic features too rigid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scription of genomic features too flexibl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IDs for genomic feature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write-back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AS/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s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formats for representing genomic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bitrary nesting of features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S/2 More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s Sequence Ontology (SO) for describing featur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y to accept attribute ontologi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dd your own ontology, but publish it!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EST-Style IDs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Data Sour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genome/wormbase/1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 Typ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ormbase.org/das/genome/wormbase/1/type/tRN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http://wormbase.org/das/genome/wormbase/1/feature/gene0038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Write-Back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UT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pdate identified featur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OS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wormbase/1/genome/featur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rea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ele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Progress</a:t>
            </a:r>
            <a:endParaRPr b="0" lang="en-US" sz="36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raft spec up and ready for commen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ttp://www.biodas.or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rver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Allen Da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ient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Gregg Hel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ject still in flux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8T01:09:44Z</dcterms:modified>
  <cp:revision>698</cp:revision>
  <dc:subject/>
  <dc:title>Training</dc:title>
</cp:coreProperties>
</file>